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3628-EC8F-4348-B5F7-EB071377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9FFE-D037-4A20-8137-910436B2C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E4A9-0038-41DA-854B-191705CC0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1C8-6B5F-482D-B688-47AC5CD3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80ED-06BF-42DF-BDCE-75DCEDC9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C2E-DEDE-46BE-BEB9-BA2B064F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AF92-1FBB-41A5-BF22-90D53A858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991D-A715-4D89-9E72-B6AA5DEF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EEE-8C1E-4940-8581-F4DB8B69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7A73-86D0-46BD-AD82-4D640BED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ACEB-5CF9-4E7C-8867-19DE77E7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7673-25C5-49C9-9866-610C9396A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435-DA7B-4480-A4E8-CB63221B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6BA-E5A3-4E45-A58F-14D837FF9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9179-C946-4900-BFAE-03C58356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962C-B36C-4377-B806-23422F422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EE61-42DA-4F70-A892-4D1A883D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782B-578F-4580-875F-7AAA2E01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F856-707F-4608-940E-133798EC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2BD-F0BF-449B-BF6E-512DA60D2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CDD8-BB14-4534-8A17-C07A0D89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429-3F91-457A-8EB5-8F961ED5B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EAE3-F5A8-483A-B900-4A05702C5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3493-076E-4A4C-BDE7-FE9664B1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645B-D82F-4E42-A2D4-12DC5C45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1DDF-74A4-4436-8B9E-AD0CC0C99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F204-A98D-40FE-BF9F-6069B976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6FD3-A834-4323-B57C-B5517B38B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F97D-F75B-4025-AA3C-EDF2033E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3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>
            <a:hlinkClick r:id="" action="ppaction://hlinkshowjump?jump=nextslide"/>
          </p:cNvPr>
          <p:cNvSpPr/>
          <p:nvPr/>
        </p:nvSpPr>
        <p:spPr>
          <a:xfrm>
            <a:off x="6934320" y="6019920"/>
            <a:ext cx="533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Untitled-10 copy"/>
          <p:cNvPicPr/>
          <p:nvPr/>
        </p:nvPicPr>
        <p:blipFill>
          <a:blip r:embed="rId3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firstslide"/>
          </p:cNvPr>
          <p:cNvSpPr/>
          <p:nvPr/>
        </p:nvSpPr>
        <p:spPr>
          <a:xfrm>
            <a:off x="8381880" y="6019920"/>
            <a:ext cx="60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exico-763774"/>
          <p:cNvPicPr/>
          <p:nvPr/>
        </p:nvPicPr>
        <p:blipFill>
          <a:blip r:embed="rId1"/>
          <a:stretch/>
        </p:blipFill>
        <p:spPr>
          <a:xfrm>
            <a:off x="304920" y="317520"/>
            <a:ext cx="8534160" cy="563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ortada"/>
          <p:cNvPicPr/>
          <p:nvPr/>
        </p:nvPicPr>
        <p:blipFill>
          <a:blip r:embed="rId2"/>
          <a:stretch/>
        </p:blipFill>
        <p:spPr>
          <a:xfrm>
            <a:off x="380880" y="2743200"/>
            <a:ext cx="272592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114800" y="380880"/>
            <a:ext cx="487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3300"/>
                </a:solidFill>
                <a:latin typeface="Chalkboard Bold"/>
              </a:rPr>
              <a:t>Mexican History &amp;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3300"/>
                </a:solidFill>
                <a:latin typeface="Chalkboard Bold"/>
              </a:rPr>
              <a:t>Section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Tim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582720" cy="44193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fter the conquest, the separate peoples and cultures mix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estizo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are people of mixed European and American Indian ances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lattoes are people of mixed European and African desc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fricans and American Indians also intermarr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asta1"/>
          <p:cNvPicPr/>
          <p:nvPr/>
        </p:nvPicPr>
        <p:blipFill>
          <a:blip r:embed="rId3"/>
          <a:stretch/>
        </p:blipFill>
        <p:spPr>
          <a:xfrm>
            <a:off x="4191120" y="2666880"/>
            <a:ext cx="2814480" cy="205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met2"/>
          <p:cNvPicPr/>
          <p:nvPr/>
        </p:nvPicPr>
        <p:blipFill>
          <a:blip r:embed="rId4"/>
          <a:stretch/>
        </p:blipFill>
        <p:spPr>
          <a:xfrm>
            <a:off x="6477120" y="3962520"/>
            <a:ext cx="2438280" cy="193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p10ima7"/>
          <p:cNvPicPr/>
          <p:nvPr/>
        </p:nvPicPr>
        <p:blipFill>
          <a:blip r:embed="rId5"/>
          <a:stretch/>
        </p:blipFill>
        <p:spPr>
          <a:xfrm>
            <a:off x="5943600" y="228600"/>
            <a:ext cx="3048120" cy="246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Tim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0560" y="1447920"/>
            <a:ext cx="3582720" cy="44193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li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Roman Catholic Church had great influ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church ruled over large areas of northern Mex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church established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ission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, or church outpo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iests learned native languages and converted the American Indians to Catholicis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santap2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6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1213286163-751_full"/>
          <p:cNvPicPr/>
          <p:nvPr/>
        </p:nvPicPr>
        <p:blipFill>
          <a:blip r:embed="rId1"/>
          <a:stretch/>
        </p:blipFill>
        <p:spPr>
          <a:xfrm>
            <a:off x="304920" y="304920"/>
            <a:ext cx="3962160" cy="2968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291057545_b46621dd34"/>
          <p:cNvPicPr/>
          <p:nvPr/>
        </p:nvPicPr>
        <p:blipFill>
          <a:blip r:embed="rId2"/>
          <a:stretch/>
        </p:blipFill>
        <p:spPr>
          <a:xfrm>
            <a:off x="380880" y="3200400"/>
            <a:ext cx="419112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eneral_window"/>
          <p:cNvPicPr/>
          <p:nvPr/>
        </p:nvPicPr>
        <p:blipFill>
          <a:blip r:embed="rId3"/>
          <a:stretch/>
        </p:blipFill>
        <p:spPr>
          <a:xfrm>
            <a:off x="4648320" y="615960"/>
            <a:ext cx="4203720" cy="19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exico-city-cathedral"/>
          <p:cNvPicPr/>
          <p:nvPr/>
        </p:nvPicPr>
        <p:blipFill>
          <a:blip r:embed="rId4"/>
          <a:stretch/>
        </p:blipFill>
        <p:spPr>
          <a:xfrm>
            <a:off x="4572000" y="2819520"/>
            <a:ext cx="4267080" cy="3201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lonial Times Economy 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ards searched for gold and sil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American Indians and the enslaved Africans labored in the mi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a result, many died from overwork and dise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sh monarch granted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hacienda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or huge expanses of farm or ranch land, to some Spanish people who became wealth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easants, usually Indians, lived and worked on hacien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istorichacienda-mexico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Spain ruled Mexico for 300 yea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Miguel Hidalgo, a Catholic priest, led the revolt against Spai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Hidalgo was killed in 1811, but Mexico won independence in 182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02" name="Picture 13" descr="Hidalgo-standing"/>
          <p:cNvPicPr/>
          <p:nvPr/>
        </p:nvPicPr>
        <p:blipFill>
          <a:blip r:embed="rId3"/>
          <a:stretch/>
        </p:blipFill>
        <p:spPr>
          <a:xfrm>
            <a:off x="4876920" y="1066680"/>
            <a:ext cx="350496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-44-image"/>
          <p:cNvPicPr/>
          <p:nvPr/>
        </p:nvPicPr>
        <p:blipFill>
          <a:blip r:embed="rId1"/>
          <a:srcRect l="1870" t="0" r="0" b="0"/>
          <a:stretch/>
        </p:blipFill>
        <p:spPr>
          <a:xfrm>
            <a:off x="1371600" y="457200"/>
            <a:ext cx="6431040" cy="542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idalgo"/>
          <p:cNvPicPr/>
          <p:nvPr/>
        </p:nvPicPr>
        <p:blipFill>
          <a:blip r:embed="rId2"/>
          <a:stretch/>
        </p:blipFill>
        <p:spPr>
          <a:xfrm>
            <a:off x="5791320" y="380880"/>
            <a:ext cx="2493720" cy="3372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4114800" cy="253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14" name="Picture 8" descr="Sonspequena"/>
          <p:cNvPicPr/>
          <p:nvPr/>
        </p:nvPicPr>
        <p:blipFill>
          <a:blip r:embed="rId3"/>
          <a:stretch/>
        </p:blipFill>
        <p:spPr>
          <a:xfrm>
            <a:off x="457200" y="1219320"/>
            <a:ext cx="4027320" cy="2840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mex-amer"/>
          <p:cNvPicPr/>
          <p:nvPr/>
        </p:nvPicPr>
        <p:blipFill>
          <a:blip r:embed="rId1"/>
          <a:stretch/>
        </p:blipFill>
        <p:spPr>
          <a:xfrm>
            <a:off x="304920" y="873000"/>
            <a:ext cx="8534160" cy="474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History and Cultur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447920"/>
            <a:ext cx="807696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ative American cultures and Spanish colonization shaped Mexican history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arly cultures of Mexico included the Olmec, the Maya, and the Azt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exico’s period as a Spanish colony and its struggles since independence have shaped its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panish and native cultures have influenced Mexico’s customs and traditions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21" name="Picture 6" descr="benito_juarez_2"/>
          <p:cNvPicPr/>
          <p:nvPr/>
        </p:nvPicPr>
        <p:blipFill>
          <a:blip r:embed="rId3"/>
          <a:stretch/>
        </p:blipFill>
        <p:spPr>
          <a:xfrm>
            <a:off x="573120" y="1066680"/>
            <a:ext cx="377028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benito_juarez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54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0560" y="1371600"/>
            <a:ext cx="358272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Later Strugg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exas broke away from Mexico fifteen years after indepen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During the resulting Mexican-American War, Mexico lost nearly half of its territo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mid-1800s, Benito J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  <a:ea typeface="Arial"/>
              </a:rPr>
              <a:t>á</a:t>
            </a: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rez helped Mexico survive a French invasion and reduced the privileges of the church and arm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In the early 1900s, hacienda owners and foreign companies had much influ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Verdana"/>
              </a:rPr>
              <a:t>The Mexican Revolution, 1910-1920, resulted in land refor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ependence and Later Struggl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28" name="Picture 6" descr="conquis"/>
          <p:cNvPicPr/>
          <p:nvPr/>
        </p:nvPicPr>
        <p:blipFill>
          <a:blip r:embed="rId3"/>
          <a:stretch/>
        </p:blipFill>
        <p:spPr>
          <a:xfrm>
            <a:off x="609480" y="1219320"/>
            <a:ext cx="3810240" cy="4495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image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29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3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panish and native cultures have influenced Mexico’s customs and traditions today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828800" y="2666880"/>
            <a:ext cx="64771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any people speak an American Indian language that ties them to their ethnic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se languages identify a person as In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360" y="191916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28800" y="1676520"/>
            <a:ext cx="64771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ost Mexicans speak Spa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bout 90 percent of Mexicans are Roman Catho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90320" y="28954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8458200" y="2057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8458200" y="3200400"/>
            <a:ext cx="160200" cy="160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1828800" y="3886200"/>
            <a:ext cx="647712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exicans have unique practices that result from the mixing of cul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or example, Mexicans celebrate the Day of the Dead to remember dead ance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s holiday is held on All Souls’ Day, but reflects native customs and belie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41360" y="4191120"/>
            <a:ext cx="12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3"/>
          <a:stretch/>
        </p:blipFill>
        <p:spPr>
          <a:xfrm>
            <a:off x="8458200" y="480060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7">
            <a:hlinkClick r:id="" action="ppaction://hlinkshowjump?jump=firstslide"/>
          </p:cNvPr>
          <p:cNvSpPr/>
          <p:nvPr/>
        </p:nvSpPr>
        <p:spPr>
          <a:xfrm>
            <a:off x="6934320" y="6019920"/>
            <a:ext cx="533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-36-image"/>
          <p:cNvPicPr/>
          <p:nvPr/>
        </p:nvPicPr>
        <p:blipFill>
          <a:blip r:embed="rId1"/>
          <a:stretch/>
        </p:blipFill>
        <p:spPr>
          <a:xfrm>
            <a:off x="2371680" y="1371600"/>
            <a:ext cx="440064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2-46-image"/>
          <p:cNvPicPr/>
          <p:nvPr/>
        </p:nvPicPr>
        <p:blipFill>
          <a:blip r:embed="rId1"/>
          <a:stretch/>
        </p:blipFill>
        <p:spPr>
          <a:xfrm>
            <a:off x="330120" y="1371600"/>
            <a:ext cx="850896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mexico-day-of-the-dead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54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2-50-map"/>
          <p:cNvPicPr/>
          <p:nvPr/>
        </p:nvPicPr>
        <p:blipFill>
          <a:blip r:embed="rId1"/>
          <a:stretch/>
        </p:blipFill>
        <p:spPr>
          <a:xfrm>
            <a:off x="343080" y="1265400"/>
            <a:ext cx="8458200" cy="31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arly cultures of Mexico included the Olmec, the Maya, and the Aztec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07696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eople came to Mexico many thousands of years a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early as 5,000 years ago, they were growing beans, peppers, squash, and domesticated cor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arming allowed people to build the first settlements in Ame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ree Civilization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8381880" y="3809880"/>
            <a:ext cx="160560" cy="160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199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5800" y="1295280"/>
            <a:ext cx="2286000" cy="4570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Olm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Lived in small villages by about 1500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Settled in the southern coast of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temples and giant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276720" y="1295280"/>
            <a:ext cx="2286000" cy="45705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Maya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big cities in Mexico and Central America between AD 250 and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stone te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eveloped a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Kept written records that do not reveal the reason for their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791320" y="1295280"/>
            <a:ext cx="2286000" cy="4570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Az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oved in from the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uilt a great capital on an island in 1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stablished an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empir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, a land with different territories and peoples under one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btained new lands, taxes, and captives to sacrifice through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8381880" y="3048120"/>
            <a:ext cx="171720" cy="17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2-42-image"/>
          <p:cNvPicPr/>
          <p:nvPr/>
        </p:nvPicPr>
        <p:blipFill>
          <a:blip r:embed="rId1"/>
          <a:stretch/>
        </p:blipFill>
        <p:spPr>
          <a:xfrm>
            <a:off x="324000" y="2124000"/>
            <a:ext cx="851508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Mexico’s period as a Spanish colony and its struggles since independence have shaped its culture. 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2666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spite great size and power, the Aztec empire did not last long after Hernán Cortés arrived with 600 Spanish soldi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sh had better weapons and ho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panish brought new diseases, such as smallpox, which killed many Azte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rtés conquered the empire by 152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enochtitlan2"/>
          <p:cNvPicPr/>
          <p:nvPr/>
        </p:nvPicPr>
        <p:blipFill>
          <a:blip r:embed="rId1"/>
          <a:stretch/>
        </p:blipFill>
        <p:spPr>
          <a:xfrm>
            <a:off x="228600" y="2897280"/>
            <a:ext cx="5105520" cy="32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rtez3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nquistador4"/>
          <p:cNvPicPr/>
          <p:nvPr/>
        </p:nvPicPr>
        <p:blipFill>
          <a:blip r:embed="rId3"/>
          <a:stretch/>
        </p:blipFill>
        <p:spPr>
          <a:xfrm>
            <a:off x="5029200" y="304920"/>
            <a:ext cx="384012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panishDiseases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70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>
            <a:hlinkClick r:id="" action="ppaction://hlinkshowjump?jump=first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tenochtitlan5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607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ddominguez</cp:lastModifiedBy>
  <cp:lastPrinted>2005-02-01T16:21:45Z</cp:lastPrinted>
  <dcterms:modified xsi:type="dcterms:W3CDTF">2011-11-18T18:10:04Z</dcterms:modified>
  <cp:revision>80</cp:revision>
  <dc:subject/>
  <dc:title>PowerPoint Presentation</dc:title>
</cp:coreProperties>
</file>